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32C-EC16-49C9-B3F8-6A5FB6F9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597-ADFA-4DA4-8B8B-F853D7D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8BA-FCA1-4F80-AF49-0F602570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245-7CF0-4C46-91D6-EA5566FC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649-091D-4CFA-AD36-494ABA6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64E-A0B6-4DCF-941F-8410B830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425-D893-4FED-8347-48BA4D2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D75-17CF-4417-BFEF-78148B4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BDB-82CF-446C-8AC7-6DE4FA5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6AC-07F6-4717-9413-4AA76F8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71C-CA18-4E54-87CD-A7FFE74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93C-2216-4C5E-810A-F587B0A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60C-876F-4FD6-8E4F-2B8590627973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0"/>
            <a:ext cx="421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دَعُوا الأَطفالَ يَأتُونَ إِلَيَّ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اَ تَمْنَعُوهُمْ فَلأَمْثالِ هَؤلاء مَلَكُوتُ الله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5:22:30Z</dcterms:created>
  <dc:creator>Charbel Azar</dc:creator>
  <dc:description/>
  <dc:language>en-US</dc:language>
  <cp:lastModifiedBy>Charbel Azar</cp:lastModifiedBy>
  <dcterms:modified xsi:type="dcterms:W3CDTF">2003-03-14T21:16:18Z</dcterms:modified>
  <cp:revision>4</cp:revision>
  <dc:subject/>
  <dc:title>PowerPoint Presentation</dc:title>
</cp:coreProperties>
</file>